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DD9-0DD5-49F6-8609-8187C869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405-CEC0-4C37-B336-176D44AC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4B3-FED7-4B2F-8340-5140E875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B27-D4A9-4E30-94BB-F14854A8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8247-7CD3-4D1F-8B87-EE3BFF9D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E38B-F6E0-440D-8AD1-323A77A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D21-623E-47C0-8356-487E1A8C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3A7-96A1-47E1-9812-2C0BD4F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366C-E2F0-4AF4-971B-1602A0BF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B2F-E04A-4C91-AD1E-9956CA10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F959-0D7B-4C85-8DF2-7A99A2E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B66-84D1-4390-A304-EA5550A7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A5D2-2754-4E5A-AAD9-B0DEFC9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7540-A934-47E6-A3BB-443F3A25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D72-3A1D-4893-8775-4AE2ECD6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96C1-F271-4F29-BCD1-D38272E4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6786-A66F-4CFF-9BE6-47977D4C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6D3-F990-4543-B248-A0F3C54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B48-3922-4F0A-B384-905E0E6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390-5223-4615-866B-6661668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450-8035-4A53-B1DF-7A31122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621-1AFA-4BDF-9383-B1A3868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DC1-73B1-474D-A6D1-28A1C102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7AC-3108-4264-BD1C-FB5FE95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43B4-145E-4F0F-8685-2E7DD87740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E890-8D5D-4DDD-8915-B173B466D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WebQue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Actividad de búsqueda guiada, que se propone a los alumnos, en la cual la mayor parte de la información empleada está extraída de la 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Convertir Internet en una fuente activa y cambiante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Integrar su componente lúdico en beneficio de la dinámica doc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Aportar un modelo de trabajo para el profesor que le sirva de pauta genérica y estructurante para su labor con los nuevos med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Perder el miedo a continuar la clase dentro del aula de informá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n creadas para que los alumnos trabajen en grupo aunque también hay individu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importante no es la búsqueda de información sino el uso que de ella se hace. De hecho deben proponerse las direcciones donde encontrar la inform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ben emplearse para resolver cuestiones puntuales sino en temas no muy definidos de modo que se favorezca la creatividad del alum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Int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donde se indique la información básica al alumno sobre lo que se esp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Tare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se debe proporcionar una descripción formal del trabajo que deberá haber llevado a cabo el alumno al final de la WebQuest ( puede ser un producto como una exposición verbal o escrita, una presentación en Power Point, una página Web, responder a unas preguntas, 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Proces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 este apartado se sugiere a los alumnos los pasos a seguir para completar la tarea. Debe ser breve y cla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Recurs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lista de sitios web que el profesor ha localizado para ayudar al estudiante a realizar la t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Evalu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se hará una descripción de lo que se va a evaluar y como se hará. Hay plantillas de evaluación para valorar el trabajo de los estudi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uesta en práct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La instrucción necesaria para el profesor abarca tan só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3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Los conceptos teóricos pertinentes a cómo diseñar un WQ efectivo, cómo hacer que éste sea productivo y ajustado a sus necesidades doc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3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Una exigua formación en naveg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3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Breves tomas de contacto con herramientas del tipo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 Rounded MT Bold"/>
              </a:rPr>
              <a:t>materiales de búsqueda, copia y edición de documentos de la red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sos para su diseñ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scar buenos sitios Web utilizando buscadores como Google. Estos sitios harán referencia a los contenidos y objetivos que queremos abordar con los alumnos. Se incluirán en el apartado “Recurso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rganizar los estudiantes y los recursos de modo que se fomente la interacción de los alum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tar a los alumnos a pensar, motivando a los alumnos a razonar y a ser crea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1:12:54Z</dcterms:created>
  <dc:creator>cpr</dc:creator>
  <dc:description/>
  <dc:language>en-US</dc:language>
  <cp:lastModifiedBy>cpr</cp:lastModifiedBy>
  <dcterms:modified xsi:type="dcterms:W3CDTF">2007-03-23T12:00:08Z</dcterms:modified>
  <cp:revision>1</cp:revision>
  <dc:subject/>
  <dc:title>WebQuest</dc:title>
</cp:coreProperties>
</file>